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CAB-9455-4336-8F0D-1FD4C9DB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3495-75F4-4568-8D7F-ABCC713B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A75-3189-4BBE-B5E3-9D37D05F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898-2A76-4E39-A706-61EF8B9F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3E56-38C5-4AD6-B9EB-1DBDC49D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AFF7-2D85-4AAB-94F5-9D2D8FBA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DA24-52C5-4F71-B6F4-3650B32F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983E-E2C9-48C1-A184-8F9D285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E1A2-73BF-49CB-9EBC-F2CDE66D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F73C-836A-465F-8087-863EA132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6479-C4BF-466A-B008-7BB4C702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F82-E77A-4B51-BC87-77E75CA4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A4D5-AF41-426F-9941-185A8F36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8A88-CC90-421C-A6A9-2A1C773E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D7DD-B8EE-4AA2-B8E8-EEA6138F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0E0F-DACB-4A3C-896F-09A482F1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0144-E926-4A08-B19D-A40D1AD8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8DC-5981-439B-A311-3F35AEB8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609-F5EE-46FA-91BF-58130FB2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C9D-4548-4259-BBC9-D29BC6B5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E05-E294-4041-AABD-8C72AEE5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612-D154-4DC2-9EF8-CBF76D3E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4F9-6ED3-4BC5-92A1-FF0D3741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F54-1700-4150-8409-C6BE3681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E0EF-B22A-4BC1-81CF-16781CF08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B897-56A9-4BAC-8FDB-2742605ED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http://teachpol.tcnj.edu/amer_pol_hist/thumbnail125.html" TargetMode="External"/><Relationship Id="rId4" Type="http://schemas.openxmlformats.org/officeDocument/2006/relationships/image" Target="../media/image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hapter 13: The Rise of a Mass Democracy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24-18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arison of Election of 1824 v. 182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your spiral, draw a line down the middle of the p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one box “The Election of 1824” and one “The Election of 1828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articles provided, fill in details about each election. Should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ilar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ion of Candid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paign Tac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n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esting F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poils 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s replaced most of the people in offices w/ their own people (the common man)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iterate and incompetent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spoils system”- rewarding political supporters w/ jobs in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mented party loyal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ariff of Abomin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824, Congress increased the general tariff significantly (37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ariff of 1828- "Black Tariff”, “Yankee Tarif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ted by Southern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ly high tariff; they felt it discriminated against th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having economic struggles &amp; tariff was a scapego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ohn C. Calhou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ce 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South Carolina Expos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ariff was unfair and should be nullified in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 rebellion, 1822- Denmark Ves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es further than Kentucky &amp; Virginia Resol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65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ullification Crisi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47560"/>
            <a:ext cx="815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iff of 1832- slightly lower tariff; fell short of South's dem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umbia Convention- tariff to be void w/in South Carolin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iff of 1833- called for gradual reduction of the Tariff of 1832 by about 10% over 8 years.  (Henry Clay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ed the dispute over the Tariff of 18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by South Carolina but not by  other states of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rail of Tea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ward expa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herokee Nation v. State of Georgia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Civilized tribes sue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right to their land in Geor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rokees, Creeks, Choctaws, Chickasaws, and Semino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rokees won c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Jackson responded “John Marshall has made his decision; now let him enforce i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Content Placeholder 4" descr="tears.jpg"/>
          <p:cNvPicPr/>
          <p:nvPr/>
        </p:nvPicPr>
        <p:blipFill>
          <a:blip r:embed="rId1"/>
          <a:stretch/>
        </p:blipFill>
        <p:spPr>
          <a:xfrm>
            <a:off x="0" y="0"/>
            <a:ext cx="243828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rail of Tea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an Removal Act of 1830- forced Indian tribes west of the Mississipp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 was Trail of 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cible removal of Native Ame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zing weather &amp; inadequate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 Hawk resisted evac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inoles fought for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470480" cy="3353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2895480" y="3848040"/>
            <a:ext cx="38102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nk Wa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despise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holas Biddle: president of the bank of the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vetoed bill to recharter Bank of the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felt that executive branch had more power than judicial branch in determining constitutionality of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83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inating conventions were held to pick political party candi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Republican: Henry Cla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: Jacks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Masonic Party (Third Party): William Wi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ner: Jack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“Corrupt Bargain” of 182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of 18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4 candidates: Andrew Jackson, John Quincy Adams, William Crawford, &amp; Henry C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ic Republica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andidate won the majority of the vo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54673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rying the Ban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withdrew federal funds &amp; placed money in pet b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dcat currency in the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e Circ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d to Panic of 18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6643800" y="2971800"/>
            <a:ext cx="25002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Birth of the Whi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ic-Republica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mocr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 Andrew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ition to monar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for internal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imed to be defenders of common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ared democrats corru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83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9047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ic candi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van Bu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al Whig candi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am Henry Har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tin van Bur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me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2494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nic of 183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ulation: get-rich quickism- “land office business” on borrowed capi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cksonian Fin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ks collapsed, commodity prices dropped, jobs were lost, &amp; sale of public lands f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dependent Treasury Bill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taining gov. funds independent of national ban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ne to Tex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o won independence from Spain- 18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ed land to Stephen F. Austin to bring families to Tex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as &amp; Mexico had many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a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anta Anna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esident of Mexi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ped out local rights, raised army to suppress Tex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788240" y="0"/>
            <a:ext cx="1355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Lone Star Rebelli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as declared independence in 18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 Houston- commander in ch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e Star flag unvei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ta Anna defeated Texans at Alamo &amp; Goli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Content Placeholder 4" descr="Lone_Star_Flag_1-8-05.jpg"/>
          <p:cNvPicPr/>
          <p:nvPr/>
        </p:nvPicPr>
        <p:blipFill>
          <a:blip r:embed="rId1"/>
          <a:stretch/>
        </p:blipFill>
        <p:spPr>
          <a:xfrm>
            <a:off x="2819520" y="4267080"/>
            <a:ext cx="1906560" cy="2362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" descr="remember the alamo.jpg"/>
          <p:cNvPicPr/>
          <p:nvPr/>
        </p:nvPicPr>
        <p:blipFill>
          <a:blip r:embed="rId2"/>
          <a:stretch/>
        </p:blipFill>
        <p:spPr>
          <a:xfrm>
            <a:off x="5638680" y="4267080"/>
            <a:ext cx="30481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ne Star Rebellio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le of San Jaci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ta Anna crushed &amp; forced to sign trea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ed hos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the Republic of Tex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as wanted to become state in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ers disagr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Content Placeholder 4" descr="United_States_1838-1842.png"/>
          <p:cNvPicPr/>
          <p:nvPr/>
        </p:nvPicPr>
        <p:blipFill>
          <a:blip r:embed="rId1"/>
          <a:stretch/>
        </p:blipFill>
        <p:spPr>
          <a:xfrm>
            <a:off x="533520" y="609480"/>
            <a:ext cx="830556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84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tin van Buren: Democr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am Henry Harrison: Whi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Tyler- Vice Presidential Candi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ppecanoe and Tyler Too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 cabins &amp; ci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am Henry Harrison elected presid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905120" y="5181480"/>
            <a:ext cx="1409760" cy="14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3" name="Object 2"/>
          <p:cNvGraphicFramePr/>
          <p:nvPr/>
        </p:nvGraphicFramePr>
        <p:xfrm>
          <a:off x="457200" y="3733920"/>
          <a:ext cx="3927600" cy="28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3927600" cy="28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Picture 3" descr="Map of the Presidential Election of 1824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228600"/>
            <a:ext cx="4800600" cy="352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Object 3"/>
          <p:cNvGraphicFramePr/>
          <p:nvPr/>
        </p:nvGraphicFramePr>
        <p:xfrm>
          <a:off x="4495680" y="3813120"/>
          <a:ext cx="4267440" cy="283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813120"/>
                    <a:ext cx="426744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6" name="Content Placeholder 4" descr="1840 election.gif"/>
          <p:cNvPicPr/>
          <p:nvPr/>
        </p:nvPicPr>
        <p:blipFill>
          <a:blip r:embed="rId1"/>
          <a:stretch/>
        </p:blipFill>
        <p:spPr>
          <a:xfrm>
            <a:off x="914400" y="914400"/>
            <a:ext cx="76978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wo-Party 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major changes in politics (after Era of Good Feeling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man moving to political main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ristocracy not well-lik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-Party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cc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s (liberty of individual, states’ righ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cc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gs (community, national bank, tariffs, abolition of slaver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upt Bargai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on went to House of Represent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Clay encouraged members to vote f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a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y becomes secretary of st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upt Bargain” b/c Jackson received most electoral and popular vo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ohn Quincy Ada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er than 1/3 of voters had voted for h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most successful secretaries of state, least successful p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support from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220px-John_Quincy_Adams_-_copy_of_1843_Philip_Haas_Daguerreotype"/>
          <p:cNvPicPr/>
          <p:nvPr/>
        </p:nvPicPr>
        <p:blipFill>
          <a:blip r:embed="rId1"/>
          <a:stretch/>
        </p:blipFill>
        <p:spPr>
          <a:xfrm>
            <a:off x="7275600" y="4267080"/>
            <a:ext cx="1868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82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Republicans- Adams &amp; C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ic Republicans- Jacks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dsling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portrayed as hero &amp; frontiersmen/ common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s portrayed as corrupt aristocr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udslingin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Jackson’s mother was a Common Prostitute, brought to this country by the British soldiers! She afterwards married a mulatto man with whom she had several children, of which number General Jackson is on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ion of 1828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won both popular &amp; electoral vo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sup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&amp; 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s sup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QA goes on to 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House of Re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Content Placeholder 5" descr="20080625232150!1828_Electoral_Map.png"/>
          <p:cNvPicPr/>
          <p:nvPr/>
        </p:nvPicPr>
        <p:blipFill>
          <a:blip r:embed="rId1"/>
          <a:stretch/>
        </p:blipFill>
        <p:spPr>
          <a:xfrm>
            <a:off x="4572000" y="2666880"/>
            <a:ext cx="4038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ld Hickory” as Presiden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president from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nominated at formal party co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w/o college education (Washingt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ier aristoc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d 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a of Common M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jackson-senate"/>
          <p:cNvPicPr/>
          <p:nvPr/>
        </p:nvPicPr>
        <p:blipFill>
          <a:blip r:embed="rId1"/>
          <a:stretch/>
        </p:blipFill>
        <p:spPr>
          <a:xfrm>
            <a:off x="6324480" y="3943440"/>
            <a:ext cx="24084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21:33:33Z</dcterms:created>
  <dc:creator>emily.johnson</dc:creator>
  <dc:description/>
  <dc:language>en-US</dc:language>
  <cp:lastModifiedBy>emily.johnson</cp:lastModifiedBy>
  <dcterms:modified xsi:type="dcterms:W3CDTF">2012-11-06T21:25:28Z</dcterms:modified>
  <cp:revision>11</cp:revision>
  <dc:subject/>
  <dc:title>Chapter 13: The Rise of a Mass Democracy</dc:title>
</cp:coreProperties>
</file>